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AB1-F10D-41CE-B893-27450EC5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32F-A090-4D66-B8BB-157427B6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A5A-D184-4AE1-9E57-325E053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4C2-FA4A-412D-8F2F-E3B5B9E1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05E-2FC0-4C0E-BF9A-19CF759F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099B-C24A-4DBD-B103-7F2CC5D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3FE5-C13E-4075-93A1-F1CEA05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22D-DC4A-42A7-B8CC-9A00DE0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927-4B5D-4D60-A4B2-C8D19F0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7AE5-4CAC-46E3-9B53-2355765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E99-D3B8-4E2F-B1A9-E2BAA47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42F-0AE7-457B-A5FD-28EA292C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6B5-AA13-4D1D-A803-AAE5A77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DFDE-FB0D-4F34-9F61-AE5C8CF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ED09-7AC1-4DB3-9ED7-0D97EFD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A53-B2CD-4EDF-BF06-27E5E2DE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9F4-82F5-4E5A-B457-EC42B408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529-D02C-47E1-BBE3-6198CD9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05E-1BF6-4B9A-914A-B08AF60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572-846B-4002-8BD2-4FE7B500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C01-43AB-4E23-8D2F-C5AC9F7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0A4-D599-47B1-9421-E9AC54F2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3B9-3EF1-4D09-B1F5-02A3698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D0C-06AF-4CBE-B22D-BC4C1D1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427-F192-4DA0-A95A-6AF6481A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064-57F0-4151-91AD-8B069C0CB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hapter 1 Review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7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Chapter 1 Review Objective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d subtrac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Operations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synonyms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, and, plus, increased by,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, minus, less than, decrea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,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,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Write an equation…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more than x increased by two time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3 and x divided by the difference of 4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Evaluating Algebraic Expression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variable when the given number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cessary mathematical operations,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Evaluate…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= 2, b=3, c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)/(b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Adding and subtracting algebraic expression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, the product of a number and variable, or a variable; it may be raised to a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like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that contain exactly the same variable, raised to the same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mbine like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the numerical coefficient, then attach the common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Sets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is a collection of elements classified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are the objects in 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oster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{element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et builder no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| x&gt;3} or {x|x&lt;4} or {x|x=1,2,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0:35:50Z</dcterms:created>
  <dc:creator>nuhs</dc:creator>
  <dc:description/>
  <dc:language>en-US</dc:language>
  <cp:lastModifiedBy>nuhs</cp:lastModifiedBy>
  <dcterms:modified xsi:type="dcterms:W3CDTF">2007-09-07T20:08:11Z</dcterms:modified>
  <cp:revision>12</cp:revision>
  <dc:subject/>
  <dc:title>Chapter 1 Review</dc:title>
</cp:coreProperties>
</file>